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jpeg" ContentType="image/jpeg"/>
  <Override PartName="/ppt/media/image24.png" ContentType="image/png"/>
  <Override PartName="/ppt/media/image22.wmf" ContentType="image/x-wmf"/>
  <Override PartName="/ppt/media/image21.jpeg" ContentType="image/jpeg"/>
  <Override PartName="/ppt/media/image32.wmf" ContentType="image/x-wmf"/>
  <Override PartName="/ppt/media/image28.jpeg" ContentType="image/jpeg"/>
  <Override PartName="/ppt/media/image23.wmf" ContentType="image/x-wmf"/>
  <Override PartName="/ppt/media/image20.png" ContentType="image/png"/>
  <Override PartName="/ppt/media/image2.jpeg" ContentType="image/jpeg"/>
  <Override PartName="/ppt/media/image57.png" ContentType="image/png"/>
  <Override PartName="/ppt/media/image18.png" ContentType="image/png"/>
  <Override PartName="/ppt/media/image17.wmf" ContentType="image/x-wmf"/>
  <Override PartName="/ppt/media/image56.png" ContentType="image/png"/>
  <Override PartName="/ppt/media/image15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10.jpeg" ContentType="image/jpeg"/>
  <Override PartName="/ppt/media/image54.wmf" ContentType="image/x-wmf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16.wmf" ContentType="image/x-wmf"/>
  <Override PartName="/ppt/media/image14.jpeg" ContentType="image/jpeg"/>
  <Override PartName="/ppt/media/image58.png" ContentType="image/png"/>
  <Override PartName="/ppt/media/image46.jpeg" ContentType="image/jpeg"/>
  <Override PartName="/ppt/media/image37.wmf" ContentType="image/x-wmf"/>
  <Override PartName="/ppt/media/image43.wmf" ContentType="image/x-wmf"/>
  <Override PartName="/ppt/media/image53.jpeg" ContentType="image/jpeg"/>
  <Override PartName="/ppt/media/image48.jpeg" ContentType="image/jpeg"/>
  <Override PartName="/ppt/media/image44.jpeg" ContentType="image/jpeg"/>
  <Override PartName="/ppt/media/image38.jpeg" ContentType="image/jpeg"/>
  <Override PartName="/ppt/media/image13.jpeg" ContentType="image/jpeg"/>
  <Override PartName="/ppt/media/image40.jpeg" ContentType="image/jpeg"/>
  <Override PartName="/ppt/media/image49.png" ContentType="image/png"/>
  <Override PartName="/ppt/media/image51.png" ContentType="image/png"/>
  <Override PartName="/ppt/media/image39.png" ContentType="image/png"/>
  <Override PartName="/ppt/media/image42.wmf" ContentType="image/x-wmf"/>
  <Override PartName="/ppt/media/image52.jpeg" ContentType="image/jpeg"/>
  <Override PartName="/ppt/media/image55.jpeg" ContentType="image/jpeg"/>
  <Override PartName="/ppt/media/image45.wmf" ContentType="image/x-wmf"/>
  <Override PartName="/ppt/media/image31.jpeg" ContentType="image/jpeg"/>
  <Override PartName="/ppt/media/image36.png" ContentType="image/png"/>
  <Override PartName="/ppt/media/image33.jpeg" ContentType="image/jpeg"/>
  <Override PartName="/ppt/media/image34.png" ContentType="image/png"/>
  <Override PartName="/ppt/media/image12.jpeg" ContentType="image/jpeg"/>
  <Override PartName="/ppt/media/image6.wmf" ContentType="image/x-wmf"/>
  <Override PartName="/ppt/media/image19.jpeg" ContentType="image/jpeg"/>
  <Override PartName="/ppt/media/image29.wmf" ContentType="image/x-wmf"/>
  <Override PartName="/ppt/media/image11.png" ContentType="image/png"/>
  <Override PartName="/ppt/media/image9.jpeg" ContentType="image/jpeg"/>
  <Override PartName="/ppt/media/image8.png" ContentType="image/png"/>
  <Override PartName="/ppt/media/image4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FAB30-9DC0-4B3F-8730-3272000B7D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7FDA-1FB6-43AA-A98E-DEA4A6DC66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83960-255A-48B2-AF16-513240B25F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B3B5D-37BC-4C8E-8278-38EF1F4D0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599FA-E117-4920-8125-B1CF63FF1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61387-8701-4CAB-8292-791514B1F0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F260F-6598-4499-8E3C-1048631F9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920129-A4D6-4165-9510-A5BAB43A84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6653B-B73F-4FF2-BD25-64886DA23A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F41866-B371-4CF7-B8D4-49C8014290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26921A-6D82-4D09-ACE5-6449B7885F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0822-DBD6-4F01-8AF6-FCF42492BB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A08-784C-4026-9CEA-3F6E0FC831B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C0C23-37CF-41A1-A7F1-669E879C78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889-8C05-4B4D-A914-9138858B17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3B05-A51D-4F1B-928C-09DC99A2792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E060-B535-48F1-9449-AD9A04E5B4D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0F8A-4076-44D8-9193-FD2CB475B2E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E8D467-A49B-470C-9197-0C17BEC1DB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4D700-0EAB-4DC9-82AC-B496FCB1A6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5885B-D3EC-4CDE-A37C-7F2A94F341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AF94-4E0D-47DF-8D53-52591C5AC0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0360-8A2C-4C6B-AECC-399CF2D96C3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5A3A-5489-45DB-ADC5-862CFE05ED7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745DE-0565-4672-8E7F-6FA022C89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C491E1-7AD4-421B-A7D5-080E0B1AB5E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CC6183-24D6-4CA4-BC29-F467462B65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EE574-EB1E-4F68-A021-04FCA75DC1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3C71A-46F1-4F99-800F-4C9184ECC3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DAB94-B658-4023-9939-A0D805F459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AB94E-57F1-42BC-9C93-AC19A23C63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F39B-5CDE-4160-80F2-3B0813F58C2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B5CFA-DA19-442A-B61A-E90E99D9423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wmf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jpeg"/><Relationship Id="rId3" Type="http://schemas.openxmlformats.org/officeDocument/2006/relationships/image" Target="../media/image10.jpeg"/><Relationship Id="rId4" Type="http://schemas.openxmlformats.org/officeDocument/2006/relationships/image" Target="../media/image4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wmf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6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895480" y="2133720"/>
            <a:ext cx="594360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Equip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1685-FE81-4E96-A3B9-BEBD55D9354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7" name="Text Box 5"/>
          <p:cNvSpPr/>
          <p:nvPr/>
        </p:nvSpPr>
        <p:spPr>
          <a:xfrm>
            <a:off x="609480" y="16765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easy to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09480" y="3809880"/>
            <a:ext cx="2971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ill it fi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609480" y="3124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warran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5"/>
          <p:cNvSpPr/>
          <p:nvPr/>
        </p:nvSpPr>
        <p:spPr>
          <a:xfrm>
            <a:off x="609480" y="23623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Verdana"/>
              </a:rPr>
              <a:t>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" descr=""/>
          <p:cNvPicPr/>
          <p:nvPr/>
        </p:nvPicPr>
        <p:blipFill>
          <a:blip r:embed="rId1"/>
          <a:srcRect l="0" t="0" r="11143" b="0"/>
          <a:stretch/>
        </p:blipFill>
        <p:spPr>
          <a:xfrm>
            <a:off x="4191120" y="1523880"/>
            <a:ext cx="4636800" cy="339912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4038480" y="3200400"/>
            <a:ext cx="2524320" cy="2371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4" descr="MCj00787110000[1]"/>
          <p:cNvPicPr/>
          <p:nvPr/>
        </p:nvPicPr>
        <p:blipFill>
          <a:blip r:embed="rId3"/>
          <a:stretch/>
        </p:blipFill>
        <p:spPr>
          <a:xfrm>
            <a:off x="6248520" y="2133720"/>
            <a:ext cx="160308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D3974-841A-4E91-8015-ADB5C2448BE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cquiring Equipmen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urchase, lease, rent, don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entral acquisi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ulk procur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nditions of contr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6" name="Picture 4" descr="MCj03008420000[1]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2895480" y="3870360"/>
            <a:ext cx="38862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3749A-9B34-44A7-BBF3-6F0E0598A3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520" y="60948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Negotiating Equipment Acquis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ring diagra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oftwar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rts lis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manua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stallation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ial perio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5486400" y="1371600"/>
            <a:ext cx="2324160" cy="2031840"/>
          </a:xfrm>
          <a:prstGeom prst="rect">
            <a:avLst/>
          </a:prstGeom>
          <a:ln w="76320">
            <a:solidFill>
              <a:srgbClr val="ff0000"/>
            </a:solidFill>
            <a:miter/>
          </a:ln>
        </p:spPr>
      </p:pic>
      <p:sp>
        <p:nvSpPr>
          <p:cNvPr id="260" name=""/>
          <p:cNvSpPr/>
          <p:nvPr/>
        </p:nvSpPr>
        <p:spPr>
          <a:xfrm>
            <a:off x="457200" y="1295280"/>
            <a:ext cx="35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es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2"/>
          <a:srcRect l="60176" t="44598" r="0" b="10494"/>
          <a:stretch/>
        </p:blipFill>
        <p:spPr>
          <a:xfrm>
            <a:off x="6248520" y="2971800"/>
            <a:ext cx="2178000" cy="1565280"/>
          </a:xfrm>
          <a:prstGeom prst="rect">
            <a:avLst/>
          </a:prstGeom>
          <a:ln w="0">
            <a:noFill/>
          </a:ln>
        </p:spPr>
      </p:pic>
      <p:grpSp>
        <p:nvGrpSpPr>
          <p:cNvPr id="262" name=""/>
          <p:cNvGrpSpPr/>
          <p:nvPr/>
        </p:nvGrpSpPr>
        <p:grpSpPr>
          <a:xfrm>
            <a:off x="7010280" y="3809880"/>
            <a:ext cx="1676520" cy="2057040"/>
            <a:chOff x="7010280" y="3809880"/>
            <a:chExt cx="1676520" cy="2057040"/>
          </a:xfrm>
        </p:grpSpPr>
        <p:sp>
          <p:nvSpPr>
            <p:cNvPr id="263" name="Gear"/>
            <p:cNvSpPr/>
            <p:nvPr/>
          </p:nvSpPr>
          <p:spPr>
            <a:xfrm>
              <a:off x="7939800" y="3809880"/>
              <a:ext cx="747000" cy="94320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10280" y="4198680"/>
              <a:ext cx="893160" cy="112752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589520" y="4614480"/>
              <a:ext cx="992520" cy="12524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F9F1B7-43D7-441C-ACB5-12123E70B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17" descr="MCj04349290000[1]"/>
          <p:cNvPicPr/>
          <p:nvPr/>
        </p:nvPicPr>
        <p:blipFill>
          <a:blip r:embed="rId1"/>
          <a:stretch/>
        </p:blipFill>
        <p:spPr>
          <a:xfrm>
            <a:off x="4952880" y="2971800"/>
            <a:ext cx="2210040" cy="220968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Before 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Text Box 15"/>
          <p:cNvSpPr/>
          <p:nvPr/>
        </p:nvSpPr>
        <p:spPr>
          <a:xfrm>
            <a:off x="380880" y="19051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confirm vendor’s responsibilities </a:t>
            </a:r>
            <a:r>
              <a:rPr b="1" i="1" lang="fr-FR" sz="2800" spc="-1" strike="noStrike">
                <a:solidFill>
                  <a:srgbClr val="ff0000"/>
                </a:solidFill>
                <a:latin typeface="Bradley Hand ITC"/>
              </a:rPr>
              <a:t>in wri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16"/>
          <p:cNvSpPr/>
          <p:nvPr/>
        </p:nvSpPr>
        <p:spPr>
          <a:xfrm>
            <a:off x="457200" y="297180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check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A105B-EFFC-404C-B6EA-BC172E55856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when possible, have manufacturer install and set up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attempt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use prior to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roper installation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1"/>
          <a:srcRect l="25142" t="6220" r="4571" b="35764"/>
          <a:stretch/>
        </p:blipFill>
        <p:spPr>
          <a:xfrm>
            <a:off x="5943600" y="2590920"/>
            <a:ext cx="2813040" cy="34113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pic>
        <p:nvPicPr>
          <p:cNvPr id="273" name="Picture 7" descr="MCj02926060000[1]"/>
          <p:cNvPicPr/>
          <p:nvPr/>
        </p:nvPicPr>
        <p:blipFill>
          <a:blip r:embed="rId2"/>
          <a:stretch/>
        </p:blipFill>
        <p:spPr>
          <a:xfrm>
            <a:off x="4724280" y="4495680"/>
            <a:ext cx="1797120" cy="182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26FEA-2E73-4F90-837F-02F6E0954A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Install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ify package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py softwar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if part of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05520" y="2590920"/>
            <a:ext cx="3504960" cy="3271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F9BCB-9507-420A-9A64-641CE1F36F2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After Equipment Installation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9480" y="1219320"/>
            <a:ext cx="8000280" cy="2513880"/>
            <a:chOff x="609480" y="1219320"/>
            <a:chExt cx="8000280" cy="2513880"/>
          </a:xfrm>
        </p:grpSpPr>
        <p:cxnSp>
          <p:nvCxnSpPr>
            <p:cNvPr id="279" name="_s281605"/>
            <p:cNvCxnSpPr>
              <a:stCxn id="280" idx="0"/>
              <a:endCxn id="281" idx="2"/>
            </p:cNvCxnSpPr>
            <p:nvPr/>
          </p:nvCxnSpPr>
          <p:spPr>
            <a:xfrm flipV="1" rot="16200000">
              <a:off x="5758200" y="107532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2" name="_s281606"/>
            <p:cNvCxnSpPr>
              <a:stCxn id="283" idx="0"/>
              <a:endCxn id="281" idx="2"/>
            </p:cNvCxnSpPr>
            <p:nvPr/>
          </p:nvCxnSpPr>
          <p:spPr>
            <a:xfrm flipV="1">
              <a:off x="4609800" y="2224440"/>
              <a:ext cx="2880" cy="5032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84" name="_s281607"/>
            <p:cNvCxnSpPr>
              <a:stCxn id="285" idx="0"/>
              <a:endCxn id="281" idx="2"/>
            </p:cNvCxnSpPr>
            <p:nvPr/>
          </p:nvCxnSpPr>
          <p:spPr>
            <a:xfrm flipH="1" flipV="1" rot="5400000">
              <a:off x="2957760" y="1075680"/>
              <a:ext cx="503280" cy="2800800"/>
            </a:xfrm>
            <a:prstGeom prst="bentConnector3">
              <a:avLst>
                <a:gd name="adj1" fmla="val 2075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81" name="_s281608"/>
            <p:cNvSpPr/>
            <p:nvPr/>
          </p:nvSpPr>
          <p:spPr>
            <a:xfrm>
              <a:off x="2609640" y="1219320"/>
              <a:ext cx="4000320" cy="100548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00"/>
                  </a:solidFill>
                  <a:latin typeface="Arial"/>
                </a:rPr>
                <a:t>Inventory Record</a:t>
              </a:r>
              <a:r>
                <a:rPr b="1" lang="en-US" sz="29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br>
                <a:rPr sz="2900"/>
              </a:b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281609"/>
            <p:cNvSpPr/>
            <p:nvPr/>
          </p:nvSpPr>
          <p:spPr>
            <a:xfrm>
              <a:off x="60948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alibr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281610"/>
            <p:cNvSpPr/>
            <p:nvPr/>
          </p:nvSpPr>
          <p:spPr>
            <a:xfrm>
              <a:off x="340956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cc00"/>
            </a:solidFill>
            <a:ln w="93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ific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281611"/>
            <p:cNvSpPr/>
            <p:nvPr/>
          </p:nvSpPr>
          <p:spPr>
            <a:xfrm>
              <a:off x="6209640" y="2727720"/>
              <a:ext cx="2400120" cy="100548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Opera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  Procedur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" descr=""/>
            <p:cNvPicPr/>
            <p:nvPr/>
          </p:nvPicPr>
          <p:blipFill>
            <a:blip r:embed="rId1"/>
            <a:stretch/>
          </p:blipFill>
          <p:spPr>
            <a:xfrm>
              <a:off x="684360" y="3034800"/>
              <a:ext cx="38592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7" name="" descr=""/>
            <p:cNvPicPr/>
            <p:nvPr/>
          </p:nvPicPr>
          <p:blipFill>
            <a:blip r:embed="rId2"/>
            <a:stretch/>
          </p:blipFill>
          <p:spPr>
            <a:xfrm>
              <a:off x="3503880" y="3034800"/>
              <a:ext cx="388440" cy="356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88" name="" descr=""/>
            <p:cNvPicPr/>
            <p:nvPr/>
          </p:nvPicPr>
          <p:blipFill>
            <a:blip r:embed="rId3"/>
            <a:stretch/>
          </p:blipFill>
          <p:spPr>
            <a:xfrm>
              <a:off x="6248880" y="2965320"/>
              <a:ext cx="385920" cy="35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9" name=""/>
          <p:cNvSpPr/>
          <p:nvPr/>
        </p:nvSpPr>
        <p:spPr>
          <a:xfrm>
            <a:off x="2362320" y="4191120"/>
            <a:ext cx="4495680" cy="6858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057400" y="5562720"/>
            <a:ext cx="5410080" cy="685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5480" y="4267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intenanc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438280" y="563868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ain ALL Oper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67080" y="2209680"/>
            <a:ext cx="685800" cy="3812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67080" y="3733920"/>
            <a:ext cx="68580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7080" y="4876920"/>
            <a:ext cx="83844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4"/>
          <a:stretch/>
        </p:blipFill>
        <p:spPr>
          <a:xfrm>
            <a:off x="685800" y="3048120"/>
            <a:ext cx="387360" cy="35532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5"/>
          <a:stretch/>
        </p:blipFill>
        <p:spPr>
          <a:xfrm>
            <a:off x="2514600" y="4343400"/>
            <a:ext cx="387360" cy="35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5B5B7-E565-49BF-BFFC-D10BDB654CD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>
            <a:lum bright="-2000"/>
          </a:blip>
          <a:srcRect l="5057" t="2516" r="15171" b="17613"/>
          <a:stretch/>
        </p:blipFill>
        <p:spPr>
          <a:xfrm>
            <a:off x="5562720" y="1371600"/>
            <a:ext cx="3371760" cy="438156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Calibr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50292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rform initial 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calibrators or standar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llow manufacturer’s instruction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frequency of routine calibr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C12E32-994D-43E6-A571-67218645719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erformance </a:t>
            </a: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valua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 flipV="1">
            <a:off x="5257800" y="837000"/>
            <a:ext cx="3352680" cy="1295640"/>
          </a:xfrm>
          <a:prstGeom prst="flowChartAlternate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known sample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z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rcRect l="20400" t="0" r="7200" b="6400"/>
          <a:stretch/>
        </p:blipFill>
        <p:spPr>
          <a:xfrm>
            <a:off x="304920" y="1676520"/>
            <a:ext cx="4114800" cy="39891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4800600" y="2286000"/>
            <a:ext cx="4038480" cy="2133720"/>
          </a:xfrm>
          <a:prstGeom prst="flowChartPreparation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724280" y="4495680"/>
            <a:ext cx="4114800" cy="2133720"/>
          </a:xfrm>
          <a:prstGeom prst="flowChartDecision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724280"/>
            <a:ext cx="403884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lidat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performance with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parallel s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514600"/>
            <a:ext cx="3429000" cy="18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stablish stabilit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or temperature- controlled equi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571320" y="1409400"/>
            <a:ext cx="3810240" cy="449568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4495680"/>
              <a:gd name="textAreaBottom" fmla="*/ 4496040 h 44956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dddddd"/>
          </a:solidFill>
          <a:ln w="381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 rot="735600">
            <a:off x="914040" y="3048120"/>
            <a:ext cx="354348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cccc"/>
                </a:solidFill>
                <a:latin typeface="Arial Black"/>
              </a:rPr>
              <a:t>New Equipment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33cccc"/>
              </a:solidFill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FF44A-C4C2-400C-88B3-8D2EED7A3E2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7543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instrument parameter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iodically, daily, weekly, month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fter major instrument repai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ubator temperat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velength calib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toclave temperature char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696080" y="685800"/>
            <a:ext cx="1219320" cy="38862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391520" y="3733920"/>
            <a:ext cx="1523880" cy="2286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3"/>
          <a:stretch/>
        </p:blipFill>
        <p:spPr>
          <a:xfrm>
            <a:off x="6019920" y="4648320"/>
            <a:ext cx="1676160" cy="175248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4"/>
          <a:stretch/>
        </p:blipFill>
        <p:spPr>
          <a:xfrm>
            <a:off x="5791320" y="2819520"/>
            <a:ext cx="2133360" cy="213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102F2-493D-4A7D-9062-124026AA26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module, you will be able t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st factors</a:t>
            </a: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o consider prior to purchasing equipment for the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 the selection and acquisition of new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cribe the requirements for a preventive maintenance program for equipmen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vide a rationale for developing a preventive maintenance programs in your laborator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11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plain how to retire old or outdat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79951A-7D13-47CA-A2B1-D06B72173A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Preventive Maintenance</a:t>
            </a:r>
            <a:br>
              <a:rPr sz="3200"/>
            </a:b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6019920" cy="163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5000"/>
          </a:bodyPr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outine clea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22840" indent="-22284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justment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lacement o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quipment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8" name="Rectangle 5"/>
          <p:cNvSpPr/>
          <p:nvPr/>
        </p:nvSpPr>
        <p:spPr>
          <a:xfrm>
            <a:off x="457200" y="1523880"/>
            <a:ext cx="6019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5410080" y="1523880"/>
            <a:ext cx="3295800" cy="29433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4" descr="MCj02295450000[1]"/>
          <p:cNvPicPr/>
          <p:nvPr/>
        </p:nvPicPr>
        <p:blipFill>
          <a:blip r:embed="rId2"/>
          <a:stretch/>
        </p:blipFill>
        <p:spPr>
          <a:xfrm>
            <a:off x="4191120" y="2286000"/>
            <a:ext cx="275256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4875B-6064-42B8-8E29-01387D802FB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ing a Maintenance Progra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64771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0000"/>
          </a:bodyPr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olicies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5560" indent="-205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in staf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rcRect l="0" t="0" r="11700" b="2532"/>
          <a:stretch/>
        </p:blipFill>
        <p:spPr>
          <a:xfrm>
            <a:off x="4419720" y="2362320"/>
            <a:ext cx="4449600" cy="3240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B12E0-13C9-45D4-B866-CB39EBF6B1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velop a Maintenance Pla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ach piec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of equipment establish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intenance plan to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requency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all maintenance tas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outine replacement of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1"/>
          <a:stretch/>
        </p:blipFill>
        <p:spPr>
          <a:xfrm>
            <a:off x="5562720" y="3809880"/>
            <a:ext cx="2514600" cy="225288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  <p:sp>
        <p:nvSpPr>
          <p:cNvPr id="327" name=""/>
          <p:cNvSpPr/>
          <p:nvPr/>
        </p:nvSpPr>
        <p:spPr>
          <a:xfrm>
            <a:off x="4038480" y="4648320"/>
            <a:ext cx="1143000" cy="68580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71360 h 685800"/>
              <a:gd name="textAreaBottom" fmla="*/ 514440 h 685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2"/>
          <a:stretch/>
        </p:blipFill>
        <p:spPr>
          <a:xfrm>
            <a:off x="1066680" y="4038480"/>
            <a:ext cx="2819520" cy="191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BCFF8-F50F-4B2F-8F04-6FC6EE01D2E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reate an Equipment Inventory Log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trument type, model number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rial numb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ation in laborator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urch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ufacturer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ndor contac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,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ote expiration d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pare par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rcRect l="0" t="0" r="38626" b="0"/>
          <a:stretch/>
        </p:blipFill>
        <p:spPr>
          <a:xfrm>
            <a:off x="6478560" y="2133720"/>
            <a:ext cx="2665440" cy="262728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2590920" cy="218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B70B6B-E85D-4A49-AE2D-008CC37ABD1E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pare Parts Invento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6172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858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Include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of spare pa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og to track stock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85800" indent="-6858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st and ordering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6781680" y="762120"/>
            <a:ext cx="2095560" cy="2476440"/>
          </a:xfrm>
          <a:prstGeom prst="rect">
            <a:avLst/>
          </a:prstGeom>
          <a:ln w="0">
            <a:noFill/>
          </a:ln>
        </p:spPr>
      </p:pic>
      <p:sp>
        <p:nvSpPr>
          <p:cNvPr id="336" name="Form"/>
          <p:cNvSpPr/>
          <p:nvPr/>
        </p:nvSpPr>
        <p:spPr>
          <a:xfrm>
            <a:off x="6400800" y="2362320"/>
            <a:ext cx="1371600" cy="16761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5791320" y="3429000"/>
            <a:ext cx="1600200" cy="160020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5105520" y="4267080"/>
            <a:ext cx="1211040" cy="160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9B5BC-0D0C-4F5B-B143-D077AE9B667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Picture 2" descr="MCDD00744_0000[1]"/>
          <p:cNvPicPr/>
          <p:nvPr/>
        </p:nvPicPr>
        <p:blipFill>
          <a:blip r:embed="rId1"/>
          <a:stretch/>
        </p:blipFill>
        <p:spPr>
          <a:xfrm>
            <a:off x="304920" y="1447920"/>
            <a:ext cx="8229600" cy="5163840"/>
          </a:xfrm>
          <a:prstGeom prst="rect">
            <a:avLst/>
          </a:prstGeom>
          <a:ln w="0">
            <a:noFill/>
          </a:ln>
        </p:spPr>
      </p:pic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roubleshooting: What is the source of the problem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44956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Sampl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Reag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Water, Electricity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Equipment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2" name="Picture 5" descr="MCj03835500000[1]"/>
          <p:cNvPicPr/>
          <p:nvPr/>
        </p:nvPicPr>
        <p:blipFill>
          <a:blip r:embed="rId2"/>
          <a:stretch/>
        </p:blipFill>
        <p:spPr>
          <a:xfrm>
            <a:off x="5486400" y="1143000"/>
            <a:ext cx="2425680" cy="533412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 txBox="1"/>
          <p:nvPr/>
        </p:nvSpPr>
        <p:spPr>
          <a:xfrm>
            <a:off x="5105520" y="3962520"/>
            <a:ext cx="3162240" cy="1104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Instructions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8EF1A-60ED-4B9A-B3B0-FB10F45A31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When in-house efforts fail: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l manufacturer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ther technical expe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ok for options to continue servi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btain back-up instrument from centra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res or manufactur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ff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fer sample to nearby laborator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1"/>
          <a:stretch/>
        </p:blipFill>
        <p:spPr>
          <a:xfrm>
            <a:off x="6781680" y="423720"/>
            <a:ext cx="2210040" cy="210348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0" t="5024" r="0" b="15071"/>
          <a:stretch/>
        </p:blipFill>
        <p:spPr>
          <a:xfrm>
            <a:off x="2057400" y="4419720"/>
            <a:ext cx="1616040" cy="193680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3"/>
          <a:stretch/>
        </p:blipFill>
        <p:spPr>
          <a:xfrm>
            <a:off x="5867280" y="4419720"/>
            <a:ext cx="2735280" cy="180792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3733920" y="60958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4"/>
          <a:stretch/>
        </p:blipFill>
        <p:spPr>
          <a:xfrm>
            <a:off x="3962520" y="4876920"/>
            <a:ext cx="1600200" cy="100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78AE8A-6A6F-4FBF-A99D-4B88F261DF7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09480" y="43272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09480" y="533160"/>
            <a:ext cx="78487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Verdana"/>
              </a:rPr>
              <a:t>Do NOT us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equipment that does not function properl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"/>
          <p:cNvSpPr/>
          <p:nvPr/>
        </p:nvSpPr>
        <p:spPr>
          <a:xfrm>
            <a:off x="3733920" y="4876920"/>
            <a:ext cx="3504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rcRect l="15600" t="4800" r="13200" b="19200"/>
          <a:stretch/>
        </p:blipFill>
        <p:spPr>
          <a:xfrm>
            <a:off x="1676520" y="1600200"/>
            <a:ext cx="5767200" cy="461808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2971800" y="2819520"/>
            <a:ext cx="3352680" cy="24714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AR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 OF 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O NOT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BF96D8-9CA8-43CD-B33D-8963E658729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rvice and Repair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anufactur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boratory must schedule routine manufacturer’s maintenanc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arranty may require repair handled by manufactur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n-house biomedical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ervice technicia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rcRect l="17455" t="0" r="29673" b="0"/>
          <a:stretch/>
        </p:blipFill>
        <p:spPr>
          <a:xfrm>
            <a:off x="5867280" y="3581280"/>
            <a:ext cx="2770200" cy="2495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891EBF-DBB8-4E03-AAFF-80CC4B5AB809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Picture 5" descr="Lab Junk"/>
          <p:cNvPicPr/>
          <p:nvPr/>
        </p:nvPicPr>
        <p:blipFill>
          <a:blip r:embed="rId1"/>
          <a:stretch/>
        </p:blipFill>
        <p:spPr>
          <a:xfrm>
            <a:off x="1523880" y="1371600"/>
            <a:ext cx="6172200" cy="463068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09B76E-4AFE-4692-9455-38F62E48E37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3886200"/>
            <a:ext cx="79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1066680"/>
            <a:ext cx="83055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reader fails while performing ELISA / EIA tests. There isn’t a documented procedure for troubleshooting, the maintenance log has not been updated for 2 years, and the manufacturer’s instructions are missing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do? Wh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Times New Roman"/>
              </a:rPr>
              <a:t>What should you have done earlier ?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What you would do if this happened in your laborator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7F9E5-9585-4C89-9B3C-FC1A3338E0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Picture 3" descr="v3_slide0294_image078"/>
          <p:cNvPicPr/>
          <p:nvPr/>
        </p:nvPicPr>
        <p:blipFill>
          <a:blip r:embed="rId1"/>
          <a:stretch/>
        </p:blipFill>
        <p:spPr>
          <a:xfrm>
            <a:off x="838080" y="1371600"/>
            <a:ext cx="4114800" cy="32814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Retiring Equipment / Disposal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838080" y="4267080"/>
            <a:ext cx="754380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4191120" y="1371600"/>
            <a:ext cx="4190760" cy="2889360"/>
          </a:xfrm>
          <a:prstGeom prst="rect">
            <a:avLst/>
          </a:prstGeom>
          <a:ln w="76320">
            <a:solidFill>
              <a:srgbClr val="66ffcc"/>
            </a:solidFill>
            <a:miter/>
          </a:ln>
        </p:spPr>
      </p:pic>
      <p:sp>
        <p:nvSpPr>
          <p:cNvPr id="365" name=""/>
          <p:cNvSpPr/>
          <p:nvPr/>
        </p:nvSpPr>
        <p:spPr>
          <a:xfrm>
            <a:off x="4724280" y="3200400"/>
            <a:ext cx="3048120" cy="1066680"/>
          </a:xfrm>
          <a:custGeom>
            <a:avLst/>
            <a:gdLst>
              <a:gd name="textAreaLeft" fmla="*/ 762120 w 3048120"/>
              <a:gd name="textAreaRight" fmla="*/ 2286360 w 3048120"/>
              <a:gd name="textAreaTop" fmla="*/ 0 h 1066680"/>
              <a:gd name="textAreaBottom" fmla="*/ 933480 h 10666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1905120" y="2743200"/>
            <a:ext cx="11142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7010280" y="4572000"/>
            <a:ext cx="111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X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4419720" y="1371600"/>
            <a:ext cx="2104920" cy="188604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5257800" y="1600200"/>
            <a:ext cx="990720" cy="3668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486400" y="3048120"/>
            <a:ext cx="1371600" cy="1295280"/>
          </a:xfrm>
          <a:custGeom>
            <a:avLst/>
            <a:gdLst>
              <a:gd name="textAreaLeft" fmla="*/ 313200 w 1371600"/>
              <a:gd name="textAreaRight" fmla="*/ 1058400 w 1371600"/>
              <a:gd name="textAreaTop" fmla="*/ 295560 h 1295280"/>
              <a:gd name="textAreaBottom" fmla="*/ 99972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Aft>
                <a:spcPts val="561"/>
              </a:spcAft>
              <a:buClr>
                <a:srgbClr val="666699"/>
              </a:buClr>
              <a:buSzPct val="9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6"/>
          <a:stretch/>
        </p:blipFill>
        <p:spPr>
          <a:xfrm>
            <a:off x="5791320" y="3352680"/>
            <a:ext cx="761760" cy="69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0CA73E-2543-4B39-BD09-0C8D293B7B7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Documents"/>
          <p:cNvSpPr/>
          <p:nvPr/>
        </p:nvSpPr>
        <p:spPr>
          <a:xfrm rot="16200000">
            <a:off x="799920" y="1485360"/>
            <a:ext cx="4267080" cy="44956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written procedures for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Text Box 5"/>
          <p:cNvSpPr/>
          <p:nvPr/>
        </p:nvSpPr>
        <p:spPr>
          <a:xfrm>
            <a:off x="914400" y="1676520"/>
            <a:ext cx="426708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outin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roubleshoo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manufacturer’s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rcRect l="0" t="9172" r="0" b="0"/>
          <a:stretch/>
        </p:blipFill>
        <p:spPr>
          <a:xfrm>
            <a:off x="6705720" y="1828800"/>
            <a:ext cx="2095560" cy="211932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7315200" y="2133720"/>
            <a:ext cx="304920" cy="1620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6" descr="MCPE07250_0000[1]"/>
          <p:cNvPicPr/>
          <p:nvPr/>
        </p:nvPicPr>
        <p:blipFill>
          <a:blip r:embed="rId2"/>
          <a:stretch/>
        </p:blipFill>
        <p:spPr>
          <a:xfrm>
            <a:off x="5334120" y="3352680"/>
            <a:ext cx="1568160" cy="19051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7" descr="MCj02926060000[1]"/>
          <p:cNvPicPr/>
          <p:nvPr/>
        </p:nvPicPr>
        <p:blipFill>
          <a:blip r:embed="rId3"/>
          <a:stretch/>
        </p:blipFill>
        <p:spPr>
          <a:xfrm>
            <a:off x="6553080" y="4267080"/>
            <a:ext cx="1954440" cy="19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6A103A-ECD6-4D79-B4A0-70E42E9E113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edicated Log Book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26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1000"/>
          </a:bodyPr>
          <a:p>
            <a:pPr marL="209160" indent="-209160">
              <a:lnSpc>
                <a:spcPct val="8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Routine maintenance: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lnSpc>
                <a:spcPct val="8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alibr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vice repai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by manufactur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3240" indent="-1742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209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09160" indent="-20916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Function che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5334120" y="2286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E7B35-D32B-4CCD-A67D-4446B9E8ACD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7d"/>
                </a:solidFill>
                <a:latin typeface="Verdana"/>
              </a:rPr>
              <a:t>Recording Proble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" y="1143000"/>
            <a:ext cx="85345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roblem occurred, equipment remov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rom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son for breakdown or fail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rrective actions ta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turned to u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nge in maintenance or in function che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6248520" y="2895480"/>
            <a:ext cx="2419200" cy="1990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B6968-3F63-4D40-8976-140F541EB7B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1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7" name="Picture 3" descr=""/>
          <p:cNvPicPr/>
          <p:nvPr/>
        </p:nvPicPr>
        <p:blipFill>
          <a:blip r:embed="rId1"/>
          <a:stretch/>
        </p:blipFill>
        <p:spPr>
          <a:xfrm>
            <a:off x="2057400" y="1219320"/>
            <a:ext cx="5638680" cy="5275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C0AC16-5356-4BA8-A77E-658BFCBDAF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2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89" name="Picture 3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6172200" cy="4986360"/>
          </a:xfrm>
          <a:prstGeom prst="rect">
            <a:avLst/>
          </a:prstGeom>
          <a:ln w="0">
            <a:noFill/>
          </a:ln>
        </p:spPr>
      </p:pic>
      <p:sp>
        <p:nvSpPr>
          <p:cNvPr id="390" name="Oval 4"/>
          <p:cNvSpPr/>
          <p:nvPr/>
        </p:nvSpPr>
        <p:spPr>
          <a:xfrm>
            <a:off x="533520" y="3276720"/>
            <a:ext cx="7391160" cy="26668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4B0BD-6B19-424A-AD66-5E686AFD342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7d"/>
                </a:solidFill>
                <a:latin typeface="Verdana"/>
              </a:rPr>
              <a:t>Example of logbook 3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1676520" y="1219320"/>
            <a:ext cx="5715000" cy="5043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85E0-3F0F-4C11-B202-F63778FB0AE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142640"/>
            <a:ext cx="79250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n equipment management program will addres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quipment sele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eventive maintenanc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dures for troubleshooting and repa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s and records will include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ventory of all laboratory equipme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formation provided by the manufacturer on operation, maintenance, and troubleshooting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s of all preventive maintenance and repair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AA2CDE-0A09-4615-BA66-994E62D9544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80520" y="152280"/>
            <a:ext cx="8280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 well-organized equipment maintenance program provid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igh level of performance and greater confidence in the reliability of result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ewer interruptions in test performance, lower repair costs, and elimination of premature replacement of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-23184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creased safety for laboratory workers will result from well-maintained equipm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31840"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"/>
          <p:cNvSpPr/>
          <p:nvPr/>
        </p:nvSpPr>
        <p:spPr>
          <a:xfrm>
            <a:off x="152280" y="4495680"/>
            <a:ext cx="8839440" cy="12193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80880" y="457200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A major part of equipment maintenance is PREVENTIVE mainten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179B6-C70B-4692-8E33-D8043BCB6E2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401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416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417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418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423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426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427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8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9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0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1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432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4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437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9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0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441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444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450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453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456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D50167-E564-4343-81BD-FCD2C8B7B83A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47920" y="457200"/>
            <a:ext cx="73152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7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52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3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4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6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7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9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62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3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7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8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3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7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80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5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6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9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1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92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C40BA-D789-42B0-8C1C-D1A1D6660E7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80520" y="685440"/>
            <a:ext cx="89154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Benefits </a:t>
            </a:r>
            <a:br>
              <a:rPr sz="36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95" name="Picture 4" descr="j0435880"/>
          <p:cNvPicPr/>
          <p:nvPr/>
        </p:nvPicPr>
        <p:blipFill>
          <a:blip r:embed="rId1"/>
          <a:srcRect l="0" t="17791" r="0" b="0"/>
          <a:stretch/>
        </p:blipFill>
        <p:spPr>
          <a:xfrm>
            <a:off x="380880" y="1371600"/>
            <a:ext cx="3581640" cy="22082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380880" y="3657600"/>
            <a:ext cx="32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Performance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high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4495680" y="12952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Test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8"/>
          <p:cNvGrpSpPr/>
          <p:nvPr/>
        </p:nvGrpSpPr>
        <p:grpSpPr>
          <a:xfrm>
            <a:off x="4343400" y="1676520"/>
            <a:ext cx="2514600" cy="1218960"/>
            <a:chOff x="4343400" y="1676520"/>
            <a:chExt cx="2514600" cy="1218960"/>
          </a:xfrm>
        </p:grpSpPr>
        <p:grpSp>
          <p:nvGrpSpPr>
            <p:cNvPr id="199" name="Group 9"/>
            <p:cNvGrpSpPr/>
            <p:nvPr/>
          </p:nvGrpSpPr>
          <p:grpSpPr>
            <a:xfrm>
              <a:off x="4343400" y="1676520"/>
              <a:ext cx="2438280" cy="1218960"/>
              <a:chOff x="4343400" y="1676520"/>
              <a:chExt cx="2438280" cy="1218960"/>
            </a:xfrm>
          </p:grpSpPr>
          <p:grpSp>
            <p:nvGrpSpPr>
              <p:cNvPr id="200" name="Group 10"/>
              <p:cNvGrpSpPr/>
              <p:nvPr/>
            </p:nvGrpSpPr>
            <p:grpSpPr>
              <a:xfrm>
                <a:off x="4343400" y="1676520"/>
                <a:ext cx="2438280" cy="1218960"/>
                <a:chOff x="4343400" y="1676520"/>
                <a:chExt cx="2438280" cy="1218960"/>
              </a:xfrm>
            </p:grpSpPr>
            <p:sp>
              <p:nvSpPr>
                <p:cNvPr id="201" name="Line 11"/>
                <p:cNvSpPr/>
                <p:nvPr/>
              </p:nvSpPr>
              <p:spPr>
                <a:xfrm>
                  <a:off x="4343400" y="1676520"/>
                  <a:ext cx="0" cy="12189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Line 12"/>
                <p:cNvSpPr/>
                <p:nvPr/>
              </p:nvSpPr>
              <p:spPr>
                <a:xfrm>
                  <a:off x="4343400" y="2895480"/>
                  <a:ext cx="2438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3" name="Line 13"/>
              <p:cNvSpPr/>
              <p:nvPr/>
            </p:nvSpPr>
            <p:spPr>
              <a:xfrm>
                <a:off x="4419360" y="198108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14"/>
              <p:cNvSpPr/>
              <p:nvPr/>
            </p:nvSpPr>
            <p:spPr>
              <a:xfrm>
                <a:off x="4419360" y="2514600"/>
                <a:ext cx="2362320" cy="0"/>
              </a:xfrm>
              <a:prstGeom prst="line">
                <a:avLst/>
              </a:prstGeom>
              <a:ln cap="rnd" w="936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4495680" y="2209680"/>
                <a:ext cx="2286000" cy="7596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6" name="Line 16"/>
            <p:cNvSpPr/>
            <p:nvPr/>
          </p:nvSpPr>
          <p:spPr>
            <a:xfrm>
              <a:off x="6858000" y="2133360"/>
              <a:ext cx="0" cy="228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Text Box 17"/>
          <p:cNvSpPr/>
          <p:nvPr/>
        </p:nvSpPr>
        <p:spPr>
          <a:xfrm>
            <a:off x="6934320" y="1905120"/>
            <a:ext cx="1828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Black"/>
              </a:rPr>
              <a:t>Variation/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18" descr="j0424784"/>
          <p:cNvPicPr/>
          <p:nvPr/>
        </p:nvPicPr>
        <p:blipFill>
          <a:blip r:embed="rId2"/>
          <a:stretch/>
        </p:blipFill>
        <p:spPr>
          <a:xfrm>
            <a:off x="3581280" y="41911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9"/>
          <p:cNvSpPr/>
          <p:nvPr/>
        </p:nvSpPr>
        <p:spPr>
          <a:xfrm>
            <a:off x="1371600" y="5181480"/>
            <a:ext cx="2743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Lowers repair co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20"/>
          <p:cNvSpPr/>
          <p:nvPr/>
        </p:nvSpPr>
        <p:spPr>
          <a:xfrm>
            <a:off x="5562720" y="5410080"/>
            <a:ext cx="3124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Lengthens lifesp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 rot="783000">
            <a:off x="6324480" y="2819520"/>
            <a:ext cx="1714680" cy="2571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195E8-70F9-49C1-9A74-269F21A4809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quipment Management Benefi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3" name="Text Box 4"/>
          <p:cNvSpPr/>
          <p:nvPr/>
        </p:nvSpPr>
        <p:spPr>
          <a:xfrm>
            <a:off x="2209680" y="2362320"/>
            <a:ext cx="2895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educes interruption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of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029200" y="114300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Increases safe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895480" y="42670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Greater customer satisf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8" descr="MCj04326350000[1]"/>
          <p:cNvPicPr/>
          <p:nvPr/>
        </p:nvPicPr>
        <p:blipFill>
          <a:blip r:embed="rId1"/>
          <a:stretch/>
        </p:blipFill>
        <p:spPr>
          <a:xfrm>
            <a:off x="609480" y="1219320"/>
            <a:ext cx="2133720" cy="2133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85800" y="4038480"/>
            <a:ext cx="2286000" cy="164304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rcRect l="16714" t="0" r="10028" b="0"/>
          <a:stretch/>
        </p:blipFill>
        <p:spPr>
          <a:xfrm>
            <a:off x="5334120" y="1752480"/>
            <a:ext cx="3244680" cy="2930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CFDC5-B9EC-4660-BD50-4071908379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276720" y="2971800"/>
            <a:ext cx="2666880" cy="17524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gram Consider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927000" y="1350720"/>
            <a:ext cx="7289280" cy="4992840"/>
            <a:chOff x="927000" y="1350720"/>
            <a:chExt cx="7289280" cy="4992840"/>
          </a:xfrm>
        </p:grpSpPr>
        <p:sp>
          <p:nvSpPr>
            <p:cNvPr id="222" name="_s109586"/>
            <p:cNvSpPr/>
            <p:nvPr/>
          </p:nvSpPr>
          <p:spPr>
            <a:xfrm flipH="1" flipV="1">
              <a:off x="2817000" y="3221640"/>
              <a:ext cx="877320" cy="312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9585"/>
            <p:cNvSpPr/>
            <p:nvPr/>
          </p:nvSpPr>
          <p:spPr>
            <a:xfrm>
              <a:off x="927000" y="2285280"/>
              <a:ext cx="2026440" cy="124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tiring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quipment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sposi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9584"/>
            <p:cNvSpPr/>
            <p:nvPr/>
          </p:nvSpPr>
          <p:spPr>
            <a:xfrm flipH="1">
              <a:off x="28170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9583"/>
            <p:cNvSpPr/>
            <p:nvPr/>
          </p:nvSpPr>
          <p:spPr>
            <a:xfrm>
              <a:off x="927000" y="4158360"/>
              <a:ext cx="2026440" cy="124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ervice</a:t>
              </a:r>
              <a:br>
                <a:rPr sz="24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and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repai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9582"/>
            <p:cNvSpPr/>
            <p:nvPr/>
          </p:nvSpPr>
          <p:spPr>
            <a:xfrm>
              <a:off x="4571640" y="447084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9581"/>
            <p:cNvSpPr/>
            <p:nvPr/>
          </p:nvSpPr>
          <p:spPr>
            <a:xfrm>
              <a:off x="3558240" y="5095080"/>
              <a:ext cx="2026440" cy="124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ouble-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shoot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9580"/>
            <p:cNvSpPr/>
            <p:nvPr/>
          </p:nvSpPr>
          <p:spPr>
            <a:xfrm>
              <a:off x="5448600" y="415836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9579"/>
            <p:cNvSpPr/>
            <p:nvPr/>
          </p:nvSpPr>
          <p:spPr>
            <a:xfrm>
              <a:off x="6189840" y="4158360"/>
              <a:ext cx="2026440" cy="124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9578"/>
            <p:cNvSpPr/>
            <p:nvPr/>
          </p:nvSpPr>
          <p:spPr>
            <a:xfrm flipV="1">
              <a:off x="5448600" y="3223440"/>
              <a:ext cx="877320" cy="312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9577"/>
            <p:cNvSpPr/>
            <p:nvPr/>
          </p:nvSpPr>
          <p:spPr>
            <a:xfrm>
              <a:off x="6189840" y="2287080"/>
              <a:ext cx="2026440" cy="12484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Calibration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erformance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valu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9576"/>
            <p:cNvSpPr/>
            <p:nvPr/>
          </p:nvSpPr>
          <p:spPr>
            <a:xfrm flipV="1">
              <a:off x="4571640" y="2599560"/>
              <a:ext cx="0" cy="62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9575"/>
            <p:cNvSpPr/>
            <p:nvPr/>
          </p:nvSpPr>
          <p:spPr>
            <a:xfrm>
              <a:off x="3558240" y="1350720"/>
              <a:ext cx="2026440" cy="1248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Instal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9574"/>
            <p:cNvSpPr/>
            <p:nvPr/>
          </p:nvSpPr>
          <p:spPr>
            <a:xfrm>
              <a:off x="3558240" y="3223800"/>
              <a:ext cx="2026440" cy="1248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Selection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600"/>
              </a:br>
              <a:r>
                <a:rPr b="1" lang="en-US" sz="2600" spc="-1" strike="noStrike">
                  <a:solidFill>
                    <a:srgbClr val="000000"/>
                  </a:solidFill>
                  <a:latin typeface="Verdana"/>
                </a:rPr>
                <a:t>acquisi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25C4B-D4AE-460A-BE34-DEB5DCE274A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quipment Management Overview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ign responsibilities for all activit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rain all personnel on requirements and maintenance need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nitor equipment management activiti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procedures are follow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view all records routine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1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pdate procedures as need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73E54-5A8E-4DBF-BD46-575CCEC0505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rcRect l="4914" t="34899" r="24572" b="14957"/>
          <a:stretch/>
        </p:blipFill>
        <p:spPr>
          <a:xfrm>
            <a:off x="1523880" y="1143000"/>
            <a:ext cx="2667240" cy="2484360"/>
          </a:xfrm>
          <a:prstGeom prst="rect">
            <a:avLst/>
          </a:prstGeom>
          <a:ln w="0">
            <a:noFill/>
          </a:ln>
        </p:spPr>
      </p:pic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06080" y="456840"/>
            <a:ext cx="835668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electing and Acquiring Equipment</a:t>
            </a:r>
            <a:br>
              <a:rPr sz="28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Text Box 5"/>
          <p:cNvSpPr/>
          <p:nvPr/>
        </p:nvSpPr>
        <p:spPr>
          <a:xfrm>
            <a:off x="2971800" y="4495680"/>
            <a:ext cx="510552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performance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re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6" descr="j0424784"/>
          <p:cNvPicPr/>
          <p:nvPr/>
        </p:nvPicPr>
        <p:blipFill>
          <a:blip r:embed="rId2"/>
          <a:stretch/>
        </p:blipFill>
        <p:spPr>
          <a:xfrm>
            <a:off x="1143000" y="4572000"/>
            <a:ext cx="1600200" cy="147168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4191120" y="1143000"/>
            <a:ext cx="3276360" cy="243828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4191120" y="3505320"/>
            <a:ext cx="327636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800600" y="350532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Facility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523880" y="3505320"/>
            <a:ext cx="2667240" cy="8380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quipment</a:t>
            </a:r>
            <a:br>
              <a:rPr sz="2400"/>
            </a:b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nee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962520" y="3657600"/>
            <a:ext cx="838080" cy="533520"/>
          </a:xfrm>
          <a:prstGeom prst="leftRightArrow">
            <a:avLst>
              <a:gd name="adj1" fmla="val 50000"/>
              <a:gd name="adj2" fmla="val 312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Equipment-Module 3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3D70E-E93E-4B38-8C1D-5F4650F832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13Z</dcterms:modified>
  <cp:revision>143</cp:revision>
  <dc:subject/>
  <dc:title>Slide 1</dc:title>
</cp:coreProperties>
</file>